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F440-29B2-43AC-85CA-5BEA08DB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E41-1A98-48C2-A2B4-02DC93B0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CBE9-D891-4528-97AC-2F4D5BCB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346-6901-4505-9371-8C61669C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3D23-08EB-4323-AC48-DCE84C5B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D63A-3614-460A-ACB2-6F488DE8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26C3-BFDE-4197-B5C9-CDE81D4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2B69-950E-446C-9949-2CFBA167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53D8-39F0-4166-9BF4-4874C065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7D60-8B3A-4E9A-AD49-2A845E72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AE32-698D-48C8-BC3B-A1643262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234-E272-43BD-8544-EF49ED1D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3BD2-7ED6-46DE-8348-2D9F0636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21A1-85F6-4A28-B7C5-56AA7C36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FDE5-A583-4A5A-8DF9-364D2BD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5DB6-0C34-41D7-9622-F960E0BB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E6F5E-6776-4482-B4C9-14333E6E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239-B367-4952-A548-5ABB5263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2F5-67BE-4330-9F15-77D08013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F0F-0AA0-4551-B467-490BFCAE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8F72-F800-470C-87F2-952D02C7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446-21C1-4660-8E6D-9439E112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79B-51C7-4239-9137-14812A0A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C262-2A26-4CD2-9561-9D297BD1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689-9956-48D1-98CB-B8D65DDBB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37AF-BD9B-4972-BD1E-809471871E8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4920" y="88920"/>
            <a:ext cx="853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09560" y="0"/>
            <a:ext cx="593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6680" y="54000"/>
            <a:ext cx="693432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143000" y="36360"/>
            <a:ext cx="6934320" cy="684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480" y="0"/>
            <a:ext cx="7050240" cy="71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4920" y="-47520"/>
            <a:ext cx="8534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07732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36640" y="0"/>
            <a:ext cx="568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2:35:32Z</dcterms:created>
  <dc:creator>PSD</dc:creator>
  <dc:description/>
  <dc:language>en-US</dc:language>
  <cp:lastModifiedBy>InstructorCF</cp:lastModifiedBy>
  <dcterms:modified xsi:type="dcterms:W3CDTF">2009-04-29T16:11:25Z</dcterms:modified>
  <cp:revision>1</cp:revision>
  <dc:subject/>
  <dc:title>PowerPoint Presentation</dc:title>
</cp:coreProperties>
</file>